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3127-1E46-4EB2-A93C-B84D65320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C041-489E-4FFE-B56A-3E0A5B4E8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89F4-DA10-4124-BA5D-030E5A166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8C77-78A0-43B5-845F-166204BB2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BAC7-90BD-453C-98E2-661BEFC67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D931-AB5B-4A1D-B9A8-BE2D70BA4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4FC5-8B36-42B9-A652-234CFFC71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3F0B-B7E6-4CEF-9783-939DD82C0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344E-E688-44C6-8A33-942D2C8C0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EA50-8800-456E-A8C8-61BBA23F1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168A-ECEC-4A41-9DCE-FF7E554DE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FA06-F194-4525-A508-F5D0FFC4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3FC9D-48C6-4DFF-BE07-63D5F40232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124080" y="2057400"/>
            <a:ext cx="2371680" cy="25909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609480" y="5059440"/>
            <a:ext cx="8153640" cy="25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President Clinton and Vice President Gore, right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ong... It's Clinton's face twice, with two different haircuts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3276720" y="990720"/>
            <a:ext cx="4724280" cy="181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see?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2362320" y="380880"/>
            <a:ext cx="3879720" cy="54864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"/>
          <p:cNvSpPr/>
          <p:nvPr/>
        </p:nvSpPr>
        <p:spPr>
          <a:xfrm>
            <a:off x="2438280" y="6172200"/>
            <a:ext cx="4572000" cy="181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you see a couple or a skull?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1447920" y="457200"/>
            <a:ext cx="6324480" cy="4695840"/>
          </a:xfrm>
          <a:prstGeom prst="rect">
            <a:avLst/>
          </a:prstGeom>
          <a:ln w="0">
            <a:noFill/>
          </a:ln>
        </p:spPr>
      </p:pic>
      <p:sp>
        <p:nvSpPr>
          <p:cNvPr id="77" name="Text Box 4"/>
          <p:cNvSpPr/>
          <p:nvPr/>
        </p:nvSpPr>
        <p:spPr>
          <a:xfrm>
            <a:off x="2438280" y="5607000"/>
            <a:ext cx="4267440" cy="14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 the black dots! :o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8077320" cy="472896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4"/>
          <p:cNvSpPr/>
          <p:nvPr/>
        </p:nvSpPr>
        <p:spPr>
          <a:xfrm>
            <a:off x="1013040" y="5638680"/>
            <a:ext cx="67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the horizontal lines parallel or do they slope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1219320" y="609480"/>
            <a:ext cx="6553080" cy="46134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1828800" y="54864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legs does this elephant hav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2819520" y="380880"/>
            <a:ext cx="3570120" cy="52578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4"/>
          <p:cNvSpPr/>
          <p:nvPr/>
        </p:nvSpPr>
        <p:spPr>
          <a:xfrm>
            <a:off x="2432160" y="5972040"/>
            <a:ext cx="399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you see the three faces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981080" y="533520"/>
            <a:ext cx="5334120" cy="4610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3"/>
          <p:cNvSpPr/>
          <p:nvPr/>
        </p:nvSpPr>
        <p:spPr>
          <a:xfrm>
            <a:off x="1981080" y="5562720"/>
            <a:ext cx="556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does the sign say? Are you sure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2666880" y="609480"/>
            <a:ext cx="3700440" cy="510552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4"/>
          <p:cNvSpPr/>
          <p:nvPr/>
        </p:nvSpPr>
        <p:spPr>
          <a:xfrm>
            <a:off x="1833480" y="5867280"/>
            <a:ext cx="546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you see the face? Or an Eskim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2514600" y="609480"/>
            <a:ext cx="4568760" cy="48006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3"/>
          <p:cNvSpPr/>
          <p:nvPr/>
        </p:nvSpPr>
        <p:spPr>
          <a:xfrm>
            <a:off x="2057400" y="556272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you see a cube missing a corner?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 do you see a small cube in a big o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2438280" y="533520"/>
            <a:ext cx="4454640" cy="472428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3"/>
          <p:cNvSpPr/>
          <p:nvPr/>
        </p:nvSpPr>
        <p:spPr>
          <a:xfrm>
            <a:off x="622440" y="5638680"/>
            <a:ext cx="813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the blue on the inner left back or the outer left fro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2438280" y="380880"/>
            <a:ext cx="4481640" cy="51818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"/>
          <p:cNvSpPr/>
          <p:nvPr/>
        </p:nvSpPr>
        <p:spPr>
          <a:xfrm>
            <a:off x="1646640" y="5791320"/>
            <a:ext cx="57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you see a musician or a girl's fa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2895480" y="1066680"/>
            <a:ext cx="2716200" cy="4724640"/>
          </a:xfrm>
          <a:prstGeom prst="rect">
            <a:avLst/>
          </a:prstGeom>
          <a:ln w="0">
            <a:noFill/>
          </a:ln>
        </p:spPr>
      </p:pic>
      <p:sp>
        <p:nvSpPr>
          <p:cNvPr id="46" name="Text Box 3"/>
          <p:cNvSpPr/>
          <p:nvPr/>
        </p:nvSpPr>
        <p:spPr>
          <a:xfrm>
            <a:off x="1752480" y="6095880"/>
            <a:ext cx="5334120" cy="16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's a face... and the wor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3393000" y="257184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2895480" y="380880"/>
            <a:ext cx="5791320" cy="19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you see?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2133720" y="380880"/>
            <a:ext cx="4725720" cy="541044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3"/>
          <p:cNvSpPr/>
          <p:nvPr/>
        </p:nvSpPr>
        <p:spPr>
          <a:xfrm>
            <a:off x="826920" y="6019920"/>
            <a:ext cx="774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you see an old man's face or two lovers kiss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133720" y="2133720"/>
            <a:ext cx="4647960" cy="27892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3"/>
          <p:cNvSpPr/>
          <p:nvPr/>
        </p:nvSpPr>
        <p:spPr>
          <a:xfrm>
            <a:off x="2133720" y="5257800"/>
            <a:ext cx="4952880" cy="16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, they're both the same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981080" y="990720"/>
            <a:ext cx="5334120" cy="19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left center circle bigger?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209680" y="990720"/>
            <a:ext cx="4800600" cy="48006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2819520" y="380880"/>
            <a:ext cx="4190760" cy="19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's a spiral, right?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1219320" y="5880240"/>
            <a:ext cx="7238880" cy="16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, these are a bunch of independent circ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666880" y="1143000"/>
            <a:ext cx="3684600" cy="52578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/>
          <p:cNvSpPr/>
          <p:nvPr/>
        </p:nvSpPr>
        <p:spPr>
          <a:xfrm>
            <a:off x="1600200" y="380880"/>
            <a:ext cx="7010280" cy="28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staring at the black dot. After a whil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ray haze around it will appear to shrink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2286000" y="1143000"/>
            <a:ext cx="4840200" cy="51055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2895480" y="380880"/>
            <a:ext cx="5486400" cy="19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you find the dog?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3124080" y="1752480"/>
            <a:ext cx="2603520" cy="46101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3"/>
          <p:cNvSpPr/>
          <p:nvPr/>
        </p:nvSpPr>
        <p:spPr>
          <a:xfrm>
            <a:off x="914400" y="380880"/>
            <a:ext cx="8229600" cy="25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e at the black lightbulb for at least 30 second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immediately stare at a white area on the scre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at a sheet of paper. You should see a glowing light bulb!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1219320" y="762120"/>
            <a:ext cx="6324480" cy="474336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4"/>
          <p:cNvSpPr/>
          <p:nvPr/>
        </p:nvSpPr>
        <p:spPr>
          <a:xfrm>
            <a:off x="2235600" y="120600"/>
            <a:ext cx="4347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colors do you see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1371600" y="5638680"/>
            <a:ext cx="6858000" cy="29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only 3 colors: White, green, and pink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seem to be two different shades of pink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there is only one pink.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1447920" y="165240"/>
            <a:ext cx="6933960" cy="6535440"/>
          </a:xfrm>
          <a:prstGeom prst="rect">
            <a:avLst/>
          </a:prstGeom>
          <a:ln w="0">
            <a:noFill/>
          </a:ln>
        </p:spPr>
      </p:pic>
      <p:sp>
        <p:nvSpPr>
          <p:cNvPr id="7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9T01:14:47Z</dcterms:created>
  <dc:creator>Carolyn Baker</dc:creator>
  <dc:description/>
  <dc:language>en-US</dc:language>
  <cp:lastModifiedBy>Asus</cp:lastModifiedBy>
  <dcterms:modified xsi:type="dcterms:W3CDTF">2018-03-09T15:37:47Z</dcterms:modified>
  <cp:revision>18</cp:revision>
  <dc:subject/>
  <dc:title>Optical Illusions</dc:title>
</cp:coreProperties>
</file>